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659772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99"/>
                </a:solidFill>
                <a:latin typeface="Arial"/>
              </a:rPr>
              <a:t>DS-XML Production Workflow                                                                                                                                                                                                                                  20 June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197000"/>
            <a:ext cx="8928000" cy="5400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92040" y="49320"/>
            <a:ext cx="1622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99ccff"/>
                </a:solidFill>
                <a:latin typeface="Comic Sans MS"/>
              </a:rPr>
              <a:t>Slide </a:t>
            </a:r>
            <a:fld id="{1F359277-F6B9-4B20-83DE-F92FAAD30706}" type="slidenum">
              <a:rPr b="0" lang="en-IE" sz="1200" spc="-1" strike="noStrike">
                <a:solidFill>
                  <a:srgbClr val="99ccff"/>
                </a:solidFill>
                <a:latin typeface="Comic Sans MS"/>
              </a:rPr>
              <a:t>&lt;number&gt;</a:t>
            </a:fld>
            <a:r>
              <a:rPr b="0" lang="en-IE" sz="1200" spc="-1" strike="noStrike">
                <a:solidFill>
                  <a:srgbClr val="99ccff"/>
                </a:solidFill>
                <a:latin typeface="Comic Sans MS"/>
              </a:rPr>
              <a:t> of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2e3ac"/>
                </a:solidFill>
                <a:latin typeface="Times New Roman"/>
              </a:rPr>
              <a:t>Click to edit the title text format</a:t>
            </a:r>
            <a:endParaRPr b="0" lang="en-US" sz="2900" spc="-1" strike="noStrike">
              <a:solidFill>
                <a:srgbClr val="f2e3a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20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810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810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810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8000" y="5808600"/>
            <a:ext cx="374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 u="sng">
                <a:solidFill>
                  <a:srgbClr val="660066"/>
                </a:solidFill>
                <a:uFillTx/>
                <a:latin typeface="Comic Sans MS"/>
              </a:rPr>
              <a:t>Antonio.Grau@oami.europa.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9760" y="1773360"/>
            <a:ext cx="5303880" cy="18316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a50021"/>
                </a:solidFill>
                <a:latin typeface="Comic Sans MS"/>
              </a:rPr>
              <a:t>DS-XML Production Work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a50021"/>
                </a:solidFill>
                <a:latin typeface="Comic Sans MS"/>
              </a:rPr>
              <a:t>Alicante - 20</a:t>
            </a:r>
            <a:r>
              <a:rPr b="0" lang="en-IE" sz="1400" spc="-1" strike="noStrike" baseline="30000">
                <a:solidFill>
                  <a:srgbClr val="a50021"/>
                </a:solidFill>
                <a:latin typeface="Comic Sans MS"/>
              </a:rPr>
              <a:t>th</a:t>
            </a:r>
            <a:r>
              <a:rPr b="0" lang="en-IE" sz="1400" spc="-1" strike="noStrike">
                <a:solidFill>
                  <a:srgbClr val="a50021"/>
                </a:solidFill>
                <a:latin typeface="Comic Sans MS"/>
              </a:rPr>
              <a:t> June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1963800"/>
            <a:ext cx="5257800" cy="3373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Comic Sans MS"/>
              </a:rPr>
              <a:t>IT Architecture  &amp; Standards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S-XML Production Workflo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95280" y="1413000"/>
          <a:ext cx="8280360" cy="531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413000"/>
                    <a:ext cx="8280360" cy="53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XML Schema Edi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7120" y="2927520"/>
            <a:ext cx="1604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35120" y="3214800"/>
            <a:ext cx="343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6920" y="1700280"/>
            <a:ext cx="74901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Types (complex &amp; simple) are considered building blocks defined in separate 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Defined in different folde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mt – Message Type (eg. TransactionType.xs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bt – Business Type (eg. DesignType.xs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at – Additional Type (eg. DesignCurrentStatusCodeType.xs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st – Standards Type (eg. ST3CountryCodeType.xs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Shell scripts put headers (date, version, etc.) into the files and merge th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Benefi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Reuse of Types in different schemas (TM-XML, DS-XML, ST.66, Message-Specific Schem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Use of powerful tools available in Unix/Linux for manipulation of files (awk, shell language scripts,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sociated Class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3106440" cy="2881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284720" y="3357720"/>
            <a:ext cx="4495680" cy="3063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211640" y="1773360"/>
            <a:ext cx="42321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Eclips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XML Tools Plug-in: XSD Valid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HyperModel Plug-in: XMI &amp; MDL Rational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4581360"/>
            <a:ext cx="3672000" cy="18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UML Class Diagram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- Quick Overview of XSD elements/types &amp; hierarchy in a compact siz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dited in Rational Rose (manual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Diagrams printed in PDF 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64000" y="3141720"/>
            <a:ext cx="576360" cy="431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XML Data Diction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2421000"/>
            <a:ext cx="38163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XML Data Dictionary Files: elements, attributes, types and enumer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xisting definitions are taken from previous dictionary 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mpty definitions are kept empty and entered manually (using the web dictionary tool or any text edit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XML Dictionaries also used fo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Online Diction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DocBook Docu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2421000"/>
            <a:ext cx="41767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ElementName&gt;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ClassNumber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/ElementNa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ElementInTypes&gt;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    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Type&gt;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ClassDescriptionType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/Type&gt;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/ElementInType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ElementINIDCode&gt;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51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/ElementINIDCod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ElementDescrip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   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Classification number of the product i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which the design is to be u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/ElementDescription&gt;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ElementRemark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&lt;/Elem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1557360"/>
            <a:ext cx="684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XSL Transformations are applied on the XSD to generate XML dictionary fil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line Dictio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258920" y="2205000"/>
            <a:ext cx="6553080" cy="4176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4360" y="1557360"/>
            <a:ext cx="770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&lt;?xml-stylesheet type="text/xsl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href="http://www.tm-xml.org/DS-XML/DS-XML_xsl/DS-XML_OnlineDictionary.xsl"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cBook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1557360"/>
            <a:ext cx="7705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dit Chapter Structure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Generate XML – DocBook Files from XSD &amp; XML Dictionaries &amp; Chapter Structure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Render document in HTML &amp; FOP (PDF) by applying DocBook-XSLs on XML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9640" y="2924280"/>
            <a:ext cx="3600720" cy="3589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500720" y="292428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195640" y="836640"/>
            <a:ext cx="684036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27280" y="8359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1557360"/>
            <a:ext cx="770544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XML-Oriented Lifecycle 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400" spc="-1" strike="noStrike">
                <a:solidFill>
                  <a:srgbClr val="000000"/>
                </a:solidFill>
                <a:latin typeface="Comic Sans MS"/>
              </a:rPr>
              <a:t>- Applying XSL Transformations on XSD &amp; XML Dictionary files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Changing the schem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dit corresponding type files on Unix 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(relative)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; change date &amp; version on header files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(quick); 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run scripts to generate XSD unique file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(quick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Import XSD in Windows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(quick)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; validate XSD in Eclipse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(quic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If small changes then edit corresponding diagram in Rational Rose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(quick).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If big changes then generate Rational file in Eclipse and arrange layout in Rational Rose </a:t>
            </a:r>
            <a:r>
              <a:rPr b="0" lang="en-IE" sz="1400" spc="-1" strike="noStrike">
                <a:solidFill>
                  <a:srgbClr val="ff0000"/>
                </a:solidFill>
                <a:latin typeface="Comic Sans MS"/>
              </a:rPr>
              <a:t>(slo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Generate new XML data dictionaries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(quick)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and edit new definitions </a:t>
            </a:r>
            <a:r>
              <a:rPr b="0" lang="en-IE" sz="1400" spc="-1" strike="noStrike">
                <a:solidFill>
                  <a:srgbClr val="009900"/>
                </a:solidFill>
                <a:latin typeface="Comic Sans MS"/>
              </a:rPr>
              <a:t>(relativ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Edit Chapters Structures for DocBook if neccesary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(quick);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generate docbook files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(quick);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render to HTML &amp; PDF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(quick);</a:t>
            </a: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 Copy HTML rendition and Paste into MS Word Document </a:t>
            </a:r>
            <a:r>
              <a:rPr b="0" lang="en-IE" sz="1400" spc="-1" strike="noStrike">
                <a:solidFill>
                  <a:srgbClr val="3333cc"/>
                </a:solidFill>
                <a:latin typeface="Comic Sans MS"/>
              </a:rPr>
              <a:t>(quic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00"/>
                </a:solidFill>
                <a:latin typeface="Comic Sans MS"/>
              </a:rPr>
              <a:t>That’s All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3T11:33:13Z</dcterms:created>
  <dc:creator>OHIM</dc:creator>
  <dc:description/>
  <cp:keywords>XML TM-XML Trade Mark Standard</cp:keywords>
  <dc:language>en-US</dc:language>
  <cp:lastModifiedBy>tranale</cp:lastModifiedBy>
  <cp:lastPrinted>2003-05-30T07:23:11Z</cp:lastPrinted>
  <dcterms:modified xsi:type="dcterms:W3CDTF">2007-06-21T14:05:12Z</dcterms:modified>
  <cp:revision>1878</cp:revision>
  <dc:subject>DS-XML</dc:subject>
  <dc:title>DS-XML Workflow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RAINING\PresentationPPT\HTML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1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